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مستخدم مقتنع بـ Microsoft Office" initials="ممبM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29.xml><?xml version="1.0" encoding="utf-8"?>
<p:cmLst xmlns:p="http://schemas.openxmlformats.org/presentationml/2006/main">
  <p:cm authorId="0" dt="2002-09-21T13:39:01.000000000" idx="1">
    <p:pos x="-1583" y="309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1080" y="868500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F8E49-2152-47D5-BC06-BE86DBAD7E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4D860-A886-4892-B08D-FA6BC240A2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CDF4E-804A-4879-BFAB-9272A60B0E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C9460-C6D1-4EBD-9485-D4F21039C3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8A60F-EABB-4AAB-B37F-EDE18C3B34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320DA-600E-4667-B423-F4A065B816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9B0D-87E0-4659-A445-9F029F6302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859B4-B0C2-4885-8420-918EC62979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BF30-BF41-486A-97C5-8BE4A6073CF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F42D9-E1D0-4777-B4D4-48C7C35097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445D2-93C0-4C43-889C-995E6BAFF3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9BE1-DABB-4C1D-985F-D656482AEE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17548-F186-4E82-80B7-69FA2ADF20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35EDB-FB2F-46B1-A331-0EC948924B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E5E5-3ABB-4F3C-9A50-6C657A753A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7C6D7-E097-49EE-8DA7-7FBB3CC6AB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82C2E-4E2C-4FB8-A7FC-F32CF2FBC8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BDA1D-8DA3-43EA-B0A6-B1F4CC26B4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46B9C-6AE7-4248-925F-181310E986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C8881-2982-45B1-8263-F13EA95B08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DFD43-C9BD-4A0F-B585-0CDB6483F7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D72A5-82B2-49E6-A6B9-4F5199D76A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6ED9-BA29-4AF4-8F1C-D9A06E91D6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3988-FAB4-4D9E-B3C2-ECAB6E6323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A1301-1075-4CA9-8DB3-E948E0B15B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C7A09-504A-4170-95AA-66AF28D4C0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D6839-0462-4119-874F-EC93C1777D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6A43D-CEE6-4382-BDAB-344282142B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B201F-B608-4909-9C32-F2329A82B2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B7177-325F-4ED9-BD04-8522AF2ABA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5867B-D52F-4984-BEEB-790089AA2A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02FC4-CAE6-4388-A082-ED9F8ED22DD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D761-D885-48E1-8826-DF9BAD29F7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5F9B-0A34-473A-8338-026B49A0BD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6D466-58D1-42B0-A9C0-DD213EE166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AEC21-60A7-440F-91A1-228FCAF506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9194E-064C-47A1-B074-E6E7CEAD35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AD1DB-4A6F-4793-BC44-4C3B6B8875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091F6-BD32-4732-9D5D-07014138C7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A4A2-7610-46A1-B1CF-44A9F1AC3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5563-4741-49D7-8B48-8524B75F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4555-3A48-4D77-89D8-AF77FEAA9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5004-3224-4B7A-924B-69BDD261CA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0574-6426-46E8-A5D9-1DB235F34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BB06-6FB8-43F3-B152-52C79CEB1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E094-2163-49C1-BFB9-FEB296496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047A-1973-4356-A86E-525A58D1B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C847-9DDA-4295-A40B-EBDBB7CFE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6794-CA89-4381-91B5-D2E25CCA5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8838-07B3-48C3-A11C-36B052B4E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1953-DA35-4165-BB64-19A6EF32B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52165-B8A5-45B0-82F6-DBB158FFBD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502B2-3E28-4FD7-8602-1570C24617B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66560" y="3985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roadway"/>
              </a:rPr>
              <a:t>MARKETING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63640" y="213372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00ccff"/>
                </a:solidFill>
                <a:latin typeface="Arabic Typesetting"/>
              </a:rPr>
              <a:t>الخطة التسويقي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2000" y="5877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C79BD-3A17-4441-99A0-00A7D31CBB6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53964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ليل المشكلات والمعوقات داخل المنشأ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ويل المعطيات الخارجية إلى فرص تسويق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6060-C735-4963-A3C9-0C5CE142E77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527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تطوير الاستراتيجية الحال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1912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عاون متكاملة لإتمام العمل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692360" y="242100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98760" y="18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سويق متكامل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BF3E0-07D1-44E3-BAAE-DD5AE6B831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نفيذ لعمليات التسويق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3429000"/>
            <a:ext cx="8229600" cy="2016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13d955"/>
                </a:solidFill>
                <a:latin typeface="Courier New"/>
                <a:cs typeface="Tahoma"/>
              </a:rPr>
              <a:t>جميع هذه القرارات أو بعضها يعتبر استراتيجياً والبعض الآخر تنظيمي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528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المراقبة المستمرة والتوجيه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DDF25-CEB9-4A91-804D-B0C8BCDABDC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19640" y="2739960"/>
            <a:ext cx="2016000" cy="901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SWOT</a:t>
            </a: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13d955"/>
                </a:solidFill>
                <a:latin typeface="Tahoma"/>
              </a:rPr>
              <a:t>ق ض ف 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56000" y="969840"/>
            <a:ext cx="3456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فر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43280" y="5373720"/>
            <a:ext cx="28083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تحديات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21440" y="3103560"/>
            <a:ext cx="298764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ضع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80" y="3043080"/>
            <a:ext cx="2340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قـو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284720" y="1413000"/>
            <a:ext cx="1440" cy="115236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284720" y="4221000"/>
            <a:ext cx="1440" cy="115272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411280" y="3284640"/>
            <a:ext cx="79236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292720" y="3357720"/>
            <a:ext cx="79200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C05E1-7AA8-4F39-A53F-CB88B26455C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197000"/>
            <a:ext cx="8362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ليل نقاط الضعف ونقاط القوة في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شركة والفرص والتحديات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2060640"/>
            <a:ext cx="69343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  <a:ea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43280" y="465300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D96E-E3A9-4582-9AE9-A97FDBCD4E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125360"/>
            <a:ext cx="843588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Times New Roman"/>
              </a:rPr>
              <a:t>إن بحوث التسويق ضرورية لمعرفة التهديدات والمخاطر في البيئة السوقية المحيطة بالشركة والتي لا يمكن السيطرة عليها وموطن الضعف والقوة التي يمكن السيطرة عليها ، من أجل التخطيط الصحي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9A540-6CD7-4ABC-B2D0-0BF841F501F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82872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تعريف بحوث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16000" y="2552760"/>
            <a:ext cx="7128000" cy="3659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badi MT Condensed Light"/>
                <a:cs typeface="Simplified Arabic"/>
              </a:rPr>
              <a:t>هي جمع وتسجيل وتحليل البيانات التسويقية المتعلقة بالمشكلة موضع البحث ودراستها واتخاذ القرار التسويقي المناسب</a:t>
            </a:r>
            <a:r>
              <a:rPr b="1" lang="en-US" sz="3600" spc="-1" strike="noStrike">
                <a:solidFill>
                  <a:srgbClr val="ffcc00"/>
                </a:solidFill>
                <a:latin typeface="Abadi MT Condensed Light"/>
                <a:ea typeface="Simplified Arab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7DC3-6457-4A65-ADC1-8DF0B272B4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60280"/>
            <a:ext cx="8619840" cy="8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زايا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1268280"/>
            <a:ext cx="8672400" cy="46818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أولويات  الأنشط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جيدة بمواصفات السلع ومتغيرات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خدام الأسس العلمية في وضع الاستراتيجي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كتشاف الفرص التسويقي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FF8C3-B4E0-4D92-82CC-964D1F4D48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4920" y="189000"/>
            <a:ext cx="8964720" cy="86652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32098f"/>
                </a:solidFill>
                <a:latin typeface="Tahoma"/>
                <a:cs typeface="Tahoma"/>
              </a:rPr>
              <a:t>تشمل عملية التخطي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74920" y="1557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بدء ببحوث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1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وقوف على مواضع القوة والضعف 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68360" y="3573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موضع الشركة في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-324000" y="4581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خطة التسويقية بالتركيز على مواقع القوة</a:t>
            </a: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 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7DFD0-60B2-4699-BBCA-5F83AFF28E4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200" y="3398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بؤ بحجم المبيعات المتوق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581120" y="143496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استراتيجيات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25322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موازنة الخاصة ب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50920" y="36291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صميم المنتج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4920" y="47260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في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8200" y="58230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رقابة والمتابعة للخط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81411-D975-4C30-9C3F-445FDC75CC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144360" y="144360"/>
            <a:ext cx="8745480" cy="1913040"/>
            <a:chOff x="144360" y="144360"/>
            <a:chExt cx="8745480" cy="1913040"/>
          </a:xfrm>
        </p:grpSpPr>
        <p:sp>
          <p:nvSpPr>
            <p:cNvPr id="56" name="AutoShape 3"/>
            <p:cNvSpPr/>
            <p:nvPr/>
          </p:nvSpPr>
          <p:spPr>
            <a:xfrm>
              <a:off x="144360" y="144360"/>
              <a:ext cx="8745480" cy="19130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289080" y="662040"/>
              <a:ext cx="84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ar-SA" sz="5400" spc="-1" strike="noStrike">
                  <a:solidFill>
                    <a:srgbClr val="32098f"/>
                  </a:solidFill>
                  <a:latin typeface="Courier New"/>
                  <a:cs typeface="Courier New"/>
                </a:rPr>
                <a:t>الخطة التسويقية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539640" y="3284640"/>
            <a:ext cx="8209080" cy="2908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abic Transparent"/>
              </a:rPr>
              <a:t>هو عبارة عن خطة توضع لبلوغ هدف الشركة التسويق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F2007-5E1D-45D6-BF5E-768EAB60BE8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333360"/>
            <a:ext cx="8569080" cy="79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جالات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2205000"/>
            <a:ext cx="7772400" cy="4248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حجم وطبيعة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أسواق الرئيس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اتجاهات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ة السوقية ل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عدد عملاء الشركة وطبيع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59280" y="1341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1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12D31-E5C0-43B3-8991-34A146BEF3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00000" y="620640"/>
            <a:ext cx="779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نافس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989000"/>
            <a:ext cx="7772400" cy="4032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طبيعة وحجم المنافسين وتوزع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نقاط الضعف والقو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للمنتجات المنافس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قارنة المنتجات المنافسة والتعرف على المنتجات الجديدة والبديل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58723-1FCA-42CA-932F-27C69D81174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79360" y="560520"/>
            <a:ext cx="7050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بيعا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32000" y="1773360"/>
            <a:ext cx="6902280" cy="44352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ليل المبيعات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لمناطق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فعالية السياس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إيجاد البدائل في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ص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3263D-7CBF-4969-B061-19A7E00FFE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689280" y="828720"/>
            <a:ext cx="45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4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ل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03240" y="1989000"/>
            <a:ext cx="7772400" cy="37544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سلع المناف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وصف السل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لتعرف على متطلبات وحاجات المستهلك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فرص إنتاج سلع جدي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387CF-65FA-4220-8B46-0474AE76D8C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42920" y="765000"/>
            <a:ext cx="77932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5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رويج والإعلا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9640" y="1989000"/>
            <a:ext cx="8271000" cy="43927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نظرة شاملة عن الاستراتي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أساليب الترويج المتوفر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وسائل الإعلان والرسائل الإعلانية المتواجدة في الأسواق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ستراتيجية الترو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9ED89-2CEA-4CDF-92B4-B1CF97CE81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549520" y="898560"/>
            <a:ext cx="5756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6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وزيع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42920" y="2017800"/>
            <a:ext cx="7416720" cy="43639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راتيجية التوزي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منافذ التوزيع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منافذ التوزيع الخاصة با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فعالية التوزيع الم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أسس اختيار الموزع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791EC-3462-4C82-8476-4429DD5563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11280" y="476280"/>
            <a:ext cx="8188200" cy="865080"/>
          </a:xfrm>
          <a:prstGeom prst="rect">
            <a:avLst/>
          </a:prstGeom>
          <a:solidFill>
            <a:srgbClr val="2b548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e5ffff"/>
                </a:solidFill>
                <a:latin typeface="Tahoma"/>
                <a:cs typeface="Tahoma"/>
              </a:rPr>
              <a:t>خطوات البحث التسويق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2205000"/>
            <a:ext cx="7920000" cy="2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ديد الهدف من البحث وتحديد المشكلة وأسبابها بشكل دقيق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784FE-A2B2-47CD-9889-EF73D5D1FBE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556000" y="260280"/>
            <a:ext cx="4481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  <a:cs typeface="Tahoma"/>
              </a:rPr>
              <a:t>تحديد المشكل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116000" y="2133720"/>
            <a:ext cx="7551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عوائق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ستغلال الفرص التسويقية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93050-377C-4D7F-B201-E10B43B7054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826920" y="1628640"/>
            <a:ext cx="7705800" cy="453564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883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خطوات تعريف المشكلة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عري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عرف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سبب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تعر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بعم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على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أعراض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حديد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هد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ن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والخطو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واجب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إتباعها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لإتمام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طلوب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05EF7-73A0-476E-940B-FCB9800A2C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476280"/>
            <a:ext cx="9144000" cy="1620720"/>
          </a:xfrm>
          <a:prstGeom prst="rect">
            <a:avLst/>
          </a:prstGeom>
          <a:gradFill rotWithShape="0">
            <a:gsLst>
              <a:gs pos="0">
                <a:srgbClr val="d4d4e2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32098f"/>
                </a:solidFill>
                <a:latin typeface="Tahoma"/>
              </a:rPr>
              <a:t>عوامل أساسية لإتمام بحوث التسويق بنجا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0066"/>
              </a:buClr>
              <a:buFont typeface="Wingdings" charset="2"/>
              <a:buChar char="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التوقيت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                 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9900"/>
              </a:buClr>
              <a:buFont typeface="Arabic Transparent"/>
              <a:buChar char="£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9900"/>
                </a:solidFill>
                <a:latin typeface="Tahoma"/>
                <a:cs typeface="Tahoma"/>
              </a:rPr>
              <a:t>التمويل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                 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MO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5b3300"/>
              </a:buClr>
              <a:buFont typeface="Wingdings" charset="2"/>
              <a:buChar char="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13d955"/>
                </a:solidFill>
                <a:latin typeface="Tahoma"/>
                <a:cs typeface="Tahoma"/>
              </a:rPr>
              <a:t>الدقة</a:t>
            </a: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                 </a:t>
            </a:r>
            <a:r>
              <a:rPr b="1" lang="en-US" sz="4000" spc="-1" strike="noStrike">
                <a:solidFill>
                  <a:srgbClr val="13d955"/>
                </a:solidFill>
                <a:latin typeface="Tahoma"/>
                <a:ea typeface="Tahoma"/>
              </a:rPr>
              <a:t>ACCUR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5B700-AB06-4517-978B-8AAAAF9C1F9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95280" y="18900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ahoma"/>
                <a:cs typeface="Tahoma"/>
              </a:rPr>
              <a:t>قبل تحديد الهدف لا بد من الإجابة على الأسئلة التالية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4920" y="1989000"/>
            <a:ext cx="86756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ماهية الصناعة التي تمارسها الشركة</a:t>
            </a:r>
            <a:r>
              <a:rPr b="1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63760" y="2492280"/>
            <a:ext cx="634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نوعية منتجات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80960" y="350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وضع الشركة في السو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80960" y="4437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حجم المناف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809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    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زبائن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50390-CAF4-4961-84D9-DE2BABCC499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68360" y="26028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فرص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أسواق (حجمها ـ تقسيماتها ـ توزيعها …..)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زبائ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حجم الطلب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تنوع المنتجات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تطور التق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اقتصاد الوط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و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95117-935E-4610-BCDA-D56E1EC976E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 </a:t>
            </a: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معوقات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تجات البديل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سعار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انهيار الاقتصادي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نظمة والقوانين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90375-FEEC-4187-9CBE-F0707328359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-433440" y="380880"/>
            <a:ext cx="910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3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ية الوصول إلى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واستغلالها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900000" y="1844640"/>
            <a:ext cx="95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التغلب على التحديات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في الأسواق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60" y="3929040"/>
            <a:ext cx="863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توظيف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لاستخدامها كموارد هامة تستفيد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منها الشركة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53171-0299-472A-8657-18FA82E6B0F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765000"/>
          <a:ext cx="7346880" cy="4897440"/>
        </p:xfrm>
        <a:graphic>
          <a:graphicData uri="http://schemas.openxmlformats.org/drawingml/2006/table">
            <a:tbl>
              <a:tblPr/>
              <a:tblGrid>
                <a:gridCol w="1366920"/>
                <a:gridCol w="2738160"/>
                <a:gridCol w="3241800"/>
              </a:tblGrid>
              <a:tr h="15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قوي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74000" rIns="828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فر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74000" marR="82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3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ضعي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تحديدا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heel spokes="2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AB182-BF2A-436F-AD8D-9BA32C4E71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45040" y="2841480"/>
            <a:ext cx="457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Courier New"/>
                <a:cs typeface="Courier New"/>
              </a:rPr>
              <a:t>هــــو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620640"/>
          <a:ext cx="8059680" cy="5359320"/>
        </p:xfrm>
        <a:graphic>
          <a:graphicData uri="http://schemas.openxmlformats.org/drawingml/2006/table">
            <a:tbl>
              <a:tblPr/>
              <a:tblGrid>
                <a:gridCol w="216000"/>
                <a:gridCol w="593640"/>
                <a:gridCol w="1308240"/>
                <a:gridCol w="2987640"/>
                <a:gridCol w="2954160"/>
              </a:tblGrid>
              <a:tr h="1617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ar-SA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أنـــــــــــــــــــــــــــــــــــــــــا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ضعيـف           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قـوي</a:t>
                      </a: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قو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أقوي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</a:t>
                      </a: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نا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ق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9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نا قـ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ضعف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4" name="Text Box 40"/>
          <p:cNvSpPr/>
          <p:nvPr/>
        </p:nvSpPr>
        <p:spPr>
          <a:xfrm rot="16200000">
            <a:off x="-155160" y="33505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ahoma"/>
              </a:rPr>
              <a:t>هــــــــــــــــــــ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31F27-CC2B-4121-826D-236CDB9B3CC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476280"/>
            <a:ext cx="86868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بيئة الدا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هيكل الإداري والتنظيمي في الشرك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إنتاج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بشر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تمويل المالي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وضع الشركة في السوق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843F-E33A-4BA8-8B5D-D0A62CF481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Times New Roman"/>
              </a:rPr>
              <a:t>بيئة التسويق والعوامل المؤثرة فيه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690560"/>
            <a:ext cx="8229600" cy="4114800"/>
          </a:xfrm>
          <a:prstGeom prst="rect">
            <a:avLst/>
          </a:prstGeom>
          <a:noFill/>
          <a:ln w="936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99"/>
                </a:solidFill>
                <a:latin typeface="Tahoma"/>
                <a:cs typeface="Arabic Transparent"/>
              </a:rPr>
              <a:t>تتأثر المشروعات الصناعية بالعديد من العوامل المحيطة بالمشروع وهي مؤثرات خارجية وداخلية، بعض هذه العوامل يمكن السيطرة عليها والبعض لا يمكن السيطرة عليها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C73DC-C14A-43A6-924A-BD951C4885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600" spc="-1" strike="noStrike">
                <a:solidFill>
                  <a:srgbClr val="e5ffff"/>
                </a:solidFill>
                <a:latin typeface="Arabic Typesetting"/>
                <a:cs typeface="Arabic Typesetting"/>
              </a:rPr>
              <a:t>وهو مزيج من الأنشطة الأربعة الأساسية</a:t>
            </a:r>
            <a:r>
              <a:rPr b="1" lang="en-US" sz="6600" spc="-1" strike="noStrike">
                <a:solidFill>
                  <a:srgbClr val="e5ffff"/>
                </a:solidFill>
                <a:latin typeface="Arabic Typesetting"/>
                <a:ea typeface="Arabic Typesetting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السلعة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السعر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أسواق التوزيع والتروي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Courier New"/>
              </a:rPr>
              <a:t>تعتمد استراتيجية المزيج التسويقي على التناسق والتناغم بين العناصر الأربعة</a:t>
            </a:r>
            <a:r>
              <a:rPr b="1" lang="en-US" sz="3600" spc="-1" strike="noStrike">
                <a:solidFill>
                  <a:srgbClr val="ffcc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just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13d955"/>
                </a:solidFill>
                <a:latin typeface="Courier New"/>
              </a:rPr>
              <a:t>التوازن بين ما تنتجه الشركة والأساليب المستخدمة للوصول إلى الأسواق لتحقيق الربح المطلوب وإشباع الحاجات تحقيق الرغبات</a:t>
            </a:r>
            <a:r>
              <a:rPr b="1" lang="en-US" sz="3600" spc="-1" strike="noStrike">
                <a:solidFill>
                  <a:srgbClr val="13d955"/>
                </a:solidFill>
                <a:latin typeface="Tahoma"/>
                <a:ea typeface="Tahom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8EEF-863A-4A5D-82AA-407469E5984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تحليل</a:t>
            </a:r>
            <a:r>
              <a:rPr b="0" lang="ar-SA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المنافسين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-327672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3600" spc="-1" strike="noStrike">
                <a:solidFill>
                  <a:srgbClr val="00ccff"/>
                </a:solidFill>
                <a:latin typeface="Times New Roman"/>
              </a:rPr>
              <a:t>المنافسة الافتراضية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57200" y="1700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</a:rPr>
              <a:t>ـ المنافسة المباشر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5720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افسة المتوقعة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57200" y="3483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تجات البديلة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63480" y="428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تعزيز التواصل مع الممولي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4604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زوال التواصل مع الزبائ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0407-76D0-4180-8A78-447AFA9EE3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380880"/>
            <a:ext cx="8229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لجعل الهدف أكثر فاعلية نتعرف إلى ماهية القرارات المتعلقة باستراتيجيات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63142-D5C0-4790-921A-BA6785DE237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4273c"/>
              </a:gs>
              <a:gs pos="50000">
                <a:srgbClr val="2b5481"/>
              </a:gs>
              <a:gs pos="100000">
                <a:srgbClr val="1427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مفهوم الخطة الاستراتيجية ل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13d955"/>
                </a:solidFill>
                <a:latin typeface="Tahoma"/>
                <a:cs typeface="Tahoma"/>
              </a:rPr>
              <a:t>ما المقصود بالإستراتيجية؟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هي مجموعة من الخطط توضع لتنفيذ هدف أو أهداف الشركة للوصول إلى تنفيذ رسالة  (أو غاية ) الشركة التي وضع الهدف من أجلها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B7A64-A03D-43FC-940D-99071CC5016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395280" y="907920"/>
            <a:ext cx="8424720" cy="4465800"/>
          </a:xfrm>
          <a:custGeom>
            <a:avLst/>
            <a:gdLst>
              <a:gd name="textAreaLeft" fmla="*/ 1307520 w 8424720"/>
              <a:gd name="textAreaRight" fmla="*/ 7117200 w 8424720"/>
              <a:gd name="textAreaTop" fmla="*/ 693000 h 4465800"/>
              <a:gd name="textAreaBottom" fmla="*/ 377280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05" y="21600"/>
                </a:lnTo>
                <a:lnTo>
                  <a:pt x="1849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لابد من تحديد استراتيجية التسويق باعتبار أن التسويق هو الهدف الأساسي لأي منشأ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05B3F-0065-4227-8099-BD527ADA87F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836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شرك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ي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مكن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ذه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بمعايي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م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نو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حال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ل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ن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تسويق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ق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خ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فر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لمخاط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موجود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سواق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CDBAF-3CD6-4995-BE6F-E2F1689EFBC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64000" y="380880"/>
            <a:ext cx="51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ffff99"/>
                </a:solidFill>
                <a:uFillTx/>
                <a:latin typeface="Courier New"/>
              </a:rPr>
              <a:t>الواقع التحليل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أن خطة التسويق الاستراتيجية يجب أن توضع من خلال التحليل التسويقي باستخدام الأدوات التالي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5C2B3-4048-44AB-BE20-082A1375045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105264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خارج المنشأة لابد من إجراء مسح شامل لبيئة السوق، وتحليل لواقع المنافسة، وللمستهلك والوضع الاقتصادي، والحكومي، والتكنولوجي…الخ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59:46Z</dcterms:created>
  <dc:creator>pc</dc:creator>
  <dc:description/>
  <dc:language>en-US</dc:language>
  <cp:lastModifiedBy>M.A.S tech</cp:lastModifiedBy>
  <dcterms:modified xsi:type="dcterms:W3CDTF">2022-02-26T14:01:36Z</dcterms:modified>
  <cp:revision>105</cp:revision>
  <dc:subject/>
  <dc:title>تحديد نقاط الضعف والقوة والفرص والتحديات</dc:title>
</cp:coreProperties>
</file>