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3E9-0E8A-499B-8EFF-8C2CF4F5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52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DF4-6649-4EFA-B238-0804A167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36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B94-B531-4551-A3FE-88556922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624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448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624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448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4203-D44B-47AD-A7C4-AE8E9F5B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17D-E0A0-441F-B622-DA603EF7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09E-85F8-4633-8071-8DCFB213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891-86AB-4AAA-99B8-A07A6EE4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7E8-9BB7-4687-8046-7A4EEBC1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960"/>
            <a:ext cx="6797520" cy="79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583-89D5-4504-9E96-3E064280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DBCD-04AE-463F-80C1-7C2C5437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36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BBF-63BE-46B2-A94B-0B99E83C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B03-C6E3-4CA2-9E9D-118D7337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68600" y="9944280"/>
            <a:ext cx="241776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8000" y="9944280"/>
            <a:ext cx="17366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CE05-7524-41B9-A299-CCC5F7AC4DCD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8880" y="9944280"/>
            <a:ext cx="17366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F35C-4F54-4104-AFD1-347ECCB1B8A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22-07-01T05:49:53Z</dcterms:modified>
  <cp:revision>1</cp:revision>
  <dc:subject/>
  <dc:title>Presentation PowerPoint</dc:title>
</cp:coreProperties>
</file>